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3.gif" ContentType="image/gif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2.jpeg" ContentType="image/jpeg"/>
  <Override PartName="/ppt/media/image18.jpeg" ContentType="image/jpeg"/>
  <Override PartName="/ppt/media/image7.png" ContentType="image/png"/>
  <Override PartName="/ppt/media/image12.png" ContentType="image/png"/>
  <Override PartName="/ppt/media/image17.jpeg" ContentType="image/jpeg"/>
  <Override PartName="/ppt/media/image15.jpeg" ContentType="image/jpeg"/>
  <Override PartName="/ppt/media/image24.png" ContentType="image/pn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12" descr="tuchiok"/>
          <p:cNvPicPr/>
          <p:nvPr/>
        </p:nvPicPr>
        <p:blipFill>
          <a:blip r:embed="rId1"/>
          <a:stretch/>
        </p:blipFill>
        <p:spPr>
          <a:xfrm>
            <a:off x="3352680" y="2438280"/>
            <a:ext cx="3276720" cy="2184480"/>
          </a:xfrm>
          <a:prstGeom prst="rect">
            <a:avLst/>
          </a:prstGeom>
          <a:ln w="0">
            <a:noFill/>
          </a:ln>
        </p:spPr>
      </p:pic>
      <p:sp>
        <p:nvSpPr>
          <p:cNvPr id="37" name="Text Box 2"/>
          <p:cNvSpPr/>
          <p:nvPr/>
        </p:nvSpPr>
        <p:spPr>
          <a:xfrm>
            <a:off x="4007880" y="10778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机械制图基础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38" name="Picture 5" descr="26"/>
          <p:cNvPicPr/>
          <p:nvPr/>
        </p:nvPicPr>
        <p:blipFill>
          <a:blip r:embed="rId2"/>
          <a:stretch/>
        </p:blipFill>
        <p:spPr>
          <a:xfrm>
            <a:off x="1523880" y="1752480"/>
            <a:ext cx="6858000" cy="111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25"/>
          <p:cNvGrpSpPr/>
          <p:nvPr/>
        </p:nvGrpSpPr>
        <p:grpSpPr>
          <a:xfrm>
            <a:off x="1600200" y="4038480"/>
            <a:ext cx="2362320" cy="1904760"/>
            <a:chOff x="1600200" y="4038480"/>
            <a:chExt cx="2362320" cy="1904760"/>
          </a:xfrm>
        </p:grpSpPr>
        <p:sp>
          <p:nvSpPr>
            <p:cNvPr id="40" name="Oval 15"/>
            <p:cNvSpPr/>
            <p:nvPr/>
          </p:nvSpPr>
          <p:spPr>
            <a:xfrm>
              <a:off x="2210040" y="457164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ff"/>
                </a:solidFill>
                <a:latin typeface="仿宋_GB2312"/>
              </a:endParaRPr>
            </a:p>
          </p:txBody>
        </p:sp>
        <p:sp>
          <p:nvSpPr>
            <p:cNvPr id="41" name="Rectangle 17"/>
            <p:cNvSpPr/>
            <p:nvPr/>
          </p:nvSpPr>
          <p:spPr>
            <a:xfrm>
              <a:off x="2819520" y="518148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ff"/>
                </a:solidFill>
                <a:latin typeface="仿宋_GB2312"/>
              </a:endParaRPr>
            </a:p>
          </p:txBody>
        </p:sp>
        <p:sp>
          <p:nvSpPr>
            <p:cNvPr id="42" name="AutoShape 16"/>
            <p:cNvSpPr/>
            <p:nvPr/>
          </p:nvSpPr>
          <p:spPr>
            <a:xfrm>
              <a:off x="1600200" y="403848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ff"/>
                </a:solidFill>
                <a:latin typeface="仿宋_GB2312"/>
              </a:endParaRPr>
            </a:p>
          </p:txBody>
        </p:sp>
      </p:grpSp>
      <p:grpSp>
        <p:nvGrpSpPr>
          <p:cNvPr id="43" name="Group 26"/>
          <p:cNvGrpSpPr/>
          <p:nvPr/>
        </p:nvGrpSpPr>
        <p:grpSpPr>
          <a:xfrm>
            <a:off x="0" y="0"/>
            <a:ext cx="725400" cy="6858000"/>
            <a:chOff x="0" y="0"/>
            <a:chExt cx="725400" cy="6858000"/>
          </a:xfrm>
        </p:grpSpPr>
        <p:sp>
          <p:nvSpPr>
            <p:cNvPr id="44" name="Rectangle 27"/>
            <p:cNvSpPr/>
            <p:nvPr/>
          </p:nvSpPr>
          <p:spPr>
            <a:xfrm>
              <a:off x="0" y="0"/>
              <a:ext cx="72540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ff"/>
                </a:solidFill>
                <a:latin typeface="仿宋_GB2312"/>
              </a:endParaRPr>
            </a:p>
          </p:txBody>
        </p:sp>
        <p:sp>
          <p:nvSpPr>
            <p:cNvPr id="45" name="WordArt 28"/>
            <p:cNvSpPr txBox="1"/>
            <p:nvPr/>
          </p:nvSpPr>
          <p:spPr>
            <a:xfrm rot="5400000">
              <a:off x="-2190240" y="3326760"/>
              <a:ext cx="5105520" cy="280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0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"/>
          <p:cNvSpPr/>
          <p:nvPr/>
        </p:nvSpPr>
        <p:spPr>
          <a:xfrm>
            <a:off x="2717280" y="235080"/>
            <a:ext cx="270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用半径为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圆弧连接一直线和一圆弧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77" name="矩形 2"/>
          <p:cNvSpPr/>
          <p:nvPr/>
        </p:nvSpPr>
        <p:spPr>
          <a:xfrm>
            <a:off x="266760" y="1065240"/>
            <a:ext cx="8481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求连接弧的圆心：作与已知直线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相距为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的平行线，再以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圆心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R+R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外切时）或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R-R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内切时）为半径画弧，此弧与所作平行线的交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即连接弧的圆心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求连接弧的切点：自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向线段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的延长线作垂线，得垂足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再作两圆心连线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O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或其延长线，与已知圆弧交于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即切点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画连接弧：以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圆心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半径，自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画圆弧，即完成作图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78" name="IM 132" descr=""/>
          <p:cNvPicPr/>
          <p:nvPr/>
        </p:nvPicPr>
        <p:blipFill>
          <a:blip r:embed="rId1"/>
          <a:stretch/>
        </p:blipFill>
        <p:spPr>
          <a:xfrm>
            <a:off x="1469880" y="4435560"/>
            <a:ext cx="2381400" cy="2127240"/>
          </a:xfrm>
          <a:prstGeom prst="rect">
            <a:avLst/>
          </a:prstGeom>
          <a:ln w="0">
            <a:noFill/>
          </a:ln>
        </p:spPr>
      </p:pic>
      <p:pic>
        <p:nvPicPr>
          <p:cNvPr id="79" name="IM 130" descr=""/>
          <p:cNvPicPr/>
          <p:nvPr/>
        </p:nvPicPr>
        <p:blipFill>
          <a:blip r:embed="rId2"/>
          <a:stretch/>
        </p:blipFill>
        <p:spPr>
          <a:xfrm>
            <a:off x="4551480" y="4435560"/>
            <a:ext cx="2820960" cy="2127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289080" y="266760"/>
            <a:ext cx="8229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圆内接正多边形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81" name="矩形 1"/>
          <p:cNvSpPr/>
          <p:nvPr/>
        </p:nvSpPr>
        <p:spPr>
          <a:xfrm>
            <a:off x="3193560" y="5479920"/>
            <a:ext cx="286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三等分（内接正三角形）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254160" y="1463760"/>
            <a:ext cx="87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用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60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直角三角板过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点画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60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斜线交圆周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点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旋转直角三角板，用同样的方法画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60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斜线交圆周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点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连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两点即得正三角形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83" name="IM 108" descr=""/>
          <p:cNvPicPr/>
          <p:nvPr/>
        </p:nvPicPr>
        <p:blipFill>
          <a:blip r:embed="rId1"/>
          <a:stretch/>
        </p:blipFill>
        <p:spPr>
          <a:xfrm>
            <a:off x="1649520" y="3292560"/>
            <a:ext cx="5508360" cy="1973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"/>
          <p:cNvSpPr/>
          <p:nvPr/>
        </p:nvSpPr>
        <p:spPr>
          <a:xfrm>
            <a:off x="3222000" y="4915080"/>
            <a:ext cx="286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四等分（内接正四边形）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85" name="矩形 2"/>
          <p:cNvSpPr/>
          <p:nvPr/>
        </p:nvSpPr>
        <p:spPr>
          <a:xfrm>
            <a:off x="733320" y="685800"/>
            <a:ext cx="739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用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45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直角三角板的斜边过圆心画线，交圆周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两点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移动直角三角板，用直角边作垂线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4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用丁字尺画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4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水平线，即得内接正四边形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86" name="IM 110" descr=""/>
          <p:cNvPicPr/>
          <p:nvPr/>
        </p:nvPicPr>
        <p:blipFill>
          <a:blip r:embed="rId1"/>
          <a:stretch/>
        </p:blipFill>
        <p:spPr>
          <a:xfrm>
            <a:off x="1805040" y="2844720"/>
            <a:ext cx="5373720" cy="1849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"/>
          <p:cNvSpPr/>
          <p:nvPr/>
        </p:nvSpPr>
        <p:spPr>
          <a:xfrm>
            <a:off x="3193560" y="5256360"/>
            <a:ext cx="286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五等分（内接正五边形）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88" name="矩形 2"/>
          <p:cNvSpPr/>
          <p:nvPr/>
        </p:nvSpPr>
        <p:spPr>
          <a:xfrm>
            <a:off x="733320" y="685800"/>
            <a:ext cx="7390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点为圆心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半径画弧，交圆周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两点，连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两点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的中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M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点为圆心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MI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半径画弧，得交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线段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IK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所求五边形的边长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用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IK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长自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起截圆周，得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II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III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I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依次连接它们即得内接正五边形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89" name="IM 112" descr=""/>
          <p:cNvPicPr/>
          <p:nvPr/>
        </p:nvPicPr>
        <p:blipFill>
          <a:blip r:embed="rId1"/>
          <a:stretch/>
        </p:blipFill>
        <p:spPr>
          <a:xfrm>
            <a:off x="1967040" y="3143160"/>
            <a:ext cx="5290920" cy="1919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1"/>
          <p:cNvSpPr/>
          <p:nvPr/>
        </p:nvSpPr>
        <p:spPr>
          <a:xfrm>
            <a:off x="3193560" y="5256360"/>
            <a:ext cx="286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六等分（内接正六边形）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365040" y="317520"/>
            <a:ext cx="8274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第一法：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以点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或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为圆心，以原圆半径为半径，截 圆于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4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四点，即得圆周六等分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第二法：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用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60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直角三角板自点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作弦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右移，自 点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5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作弦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5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；旋转直角三角板作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3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65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两弦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用丁字尺连接线段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6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即得内接正六 边形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92" name="IM 114" descr=""/>
          <p:cNvPicPr/>
          <p:nvPr/>
        </p:nvPicPr>
        <p:blipFill>
          <a:blip r:embed="rId1"/>
          <a:stretch/>
        </p:blipFill>
        <p:spPr>
          <a:xfrm>
            <a:off x="2122560" y="3306600"/>
            <a:ext cx="4759200" cy="1852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1"/>
          <p:cNvSpPr/>
          <p:nvPr/>
        </p:nvSpPr>
        <p:spPr>
          <a:xfrm>
            <a:off x="3193560" y="5256360"/>
            <a:ext cx="286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七等分（内接正七边形）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94" name="矩形 2"/>
          <p:cNvSpPr/>
          <p:nvPr/>
        </p:nvSpPr>
        <p:spPr>
          <a:xfrm>
            <a:off x="365040" y="766800"/>
            <a:ext cx="8274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将直径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分成七等份（若作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边形，则可分成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等份）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以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圆心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A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半径画弧，交线段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CD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延长线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点（或对称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K9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自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或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K9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与直径上奇数点（或偶数点）连线，延长至圆周，即得各分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II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III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I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V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VI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VII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95" name="IM 116" descr=""/>
          <p:cNvPicPr/>
          <p:nvPr/>
        </p:nvPicPr>
        <p:blipFill>
          <a:blip r:embed="rId1"/>
          <a:stretch/>
        </p:blipFill>
        <p:spPr>
          <a:xfrm>
            <a:off x="1835280" y="3252960"/>
            <a:ext cx="5581440" cy="17827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289080" y="266760"/>
            <a:ext cx="8229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 绘制椭圆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97" name="矩形 2"/>
          <p:cNvSpPr/>
          <p:nvPr/>
        </p:nvSpPr>
        <p:spPr>
          <a:xfrm>
            <a:off x="254160" y="1054080"/>
            <a:ext cx="8743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同心圆法。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点为圆心，以长半轴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和短半轴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半径作同心圆。过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点作若干射线与两圆相交，再由各交点分别作长轴和短轴的平行线，即可分别得椭圆上的各点，然后用圆弧连成椭圆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四心圆弧近似画法。连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两点，取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CE1=OA-O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作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AE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的中垂线，与两轴交于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再取对称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分别以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圆心，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1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2C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3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4D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半径画圆弧，从而连接成近似椭圆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98" name="IM 122" descr=""/>
          <p:cNvPicPr/>
          <p:nvPr/>
        </p:nvPicPr>
        <p:blipFill>
          <a:blip r:embed="rId1"/>
          <a:stretch/>
        </p:blipFill>
        <p:spPr>
          <a:xfrm>
            <a:off x="1165320" y="4316400"/>
            <a:ext cx="2238120" cy="22748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1" descr=""/>
          <p:cNvPicPr/>
          <p:nvPr/>
        </p:nvPicPr>
        <p:blipFill>
          <a:blip r:embed="rId2"/>
          <a:stretch/>
        </p:blipFill>
        <p:spPr>
          <a:xfrm>
            <a:off x="5040360" y="4316400"/>
            <a:ext cx="2419200" cy="2274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289080" y="266760"/>
            <a:ext cx="8229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 斜度和锥度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101" name="矩形 2"/>
          <p:cNvSpPr/>
          <p:nvPr/>
        </p:nvSpPr>
        <p:spPr>
          <a:xfrm>
            <a:off x="289080" y="1370160"/>
            <a:ext cx="35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斜度是一直线（或平面）对另一直线（或平面）的倾斜程度，其大小用该两直线（或平面）间夹角的正切值表示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锥度是圆锥体底圆直径与锥体高度的比值。如果是锥台，则为上、下两底圆直径差与锥台高度的比值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102" name="IM 120" descr=""/>
          <p:cNvPicPr/>
          <p:nvPr/>
        </p:nvPicPr>
        <p:blipFill>
          <a:blip r:embed="rId1"/>
          <a:stretch/>
        </p:blipFill>
        <p:spPr>
          <a:xfrm>
            <a:off x="4249800" y="1370160"/>
            <a:ext cx="4483080" cy="2193840"/>
          </a:xfrm>
          <a:prstGeom prst="rect">
            <a:avLst/>
          </a:prstGeom>
          <a:ln w="0">
            <a:noFill/>
          </a:ln>
        </p:spPr>
      </p:pic>
      <p:pic>
        <p:nvPicPr>
          <p:cNvPr id="103" name="IM 118" descr=""/>
          <p:cNvPicPr/>
          <p:nvPr/>
        </p:nvPicPr>
        <p:blipFill>
          <a:blip r:embed="rId2"/>
          <a:stretch/>
        </p:blipFill>
        <p:spPr>
          <a:xfrm>
            <a:off x="4249800" y="4027320"/>
            <a:ext cx="4487760" cy="1949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1733400" y="1882800"/>
            <a:ext cx="6839280" cy="19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作业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-7</a:t>
            </a:r>
            <a:endParaRPr b="0" lang="en-US" sz="4000" spc="-1" strike="noStrike">
              <a:solidFill>
                <a:srgbClr val="0066ff"/>
              </a:solidFill>
              <a:latin typeface="仿宋_GB2312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预习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项目一任务四  平面图形</a:t>
            </a:r>
            <a:endParaRPr b="0" lang="en-US" sz="2800" spc="-1" strike="noStrike">
              <a:solidFill>
                <a:srgbClr val="0066ff"/>
              </a:solidFill>
              <a:latin typeface="仿宋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项目一任务五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</a:rPr>
              <a:t>草图的绘制方法</a:t>
            </a:r>
            <a:endParaRPr b="0" lang="en-US" sz="28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105" name="Picture 5" descr="下一页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077320" y="6400800"/>
            <a:ext cx="838080" cy="312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上一页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086600" y="6400800"/>
            <a:ext cx="838080" cy="3128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0" lang="en-US" sz="48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仿宋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ff"/>
              </a:solidFill>
              <a:latin typeface="仿宋_GB2312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0" lang="en-US" sz="1800" spc="-1" strike="noStrike">
              <a:solidFill>
                <a:srgbClr val="0066ff"/>
              </a:solidFill>
              <a:latin typeface="仿宋_GB2312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1760400" y="2774880"/>
            <a:ext cx="58248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二  绘图工具的使用</a:t>
            </a:r>
            <a:endParaRPr b="0" lang="en-US" sz="4000" spc="-1" strike="noStrike">
              <a:solidFill>
                <a:srgbClr val="0066ff"/>
              </a:solidFill>
              <a:latin typeface="仿宋_GB2312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7"/>
          <p:cNvSpPr/>
          <p:nvPr/>
        </p:nvSpPr>
        <p:spPr>
          <a:xfrm>
            <a:off x="3417840" y="87480"/>
            <a:ext cx="26100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 铅笔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48" name="矩形 1"/>
          <p:cNvSpPr/>
          <p:nvPr/>
        </p:nvSpPr>
        <p:spPr>
          <a:xfrm>
            <a:off x="1039680" y="103824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绘图用铅笔的铅芯分别用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表示其软、硬程度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：画各种细线和画底稿用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H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：画箭头和写字用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或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：画粗实线用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使用时，将用于画粗实线的铅芯磨成矩形，其余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的磨成圆锥形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49" name="图片 5" descr=""/>
          <p:cNvPicPr/>
          <p:nvPr/>
        </p:nvPicPr>
        <p:blipFill>
          <a:blip r:embed="rId1"/>
          <a:stretch/>
        </p:blipFill>
        <p:spPr>
          <a:xfrm>
            <a:off x="1039680" y="3662280"/>
            <a:ext cx="7410600" cy="210672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2"/>
          <p:cNvSpPr/>
          <p:nvPr/>
        </p:nvSpPr>
        <p:spPr>
          <a:xfrm>
            <a:off x="1344600" y="6010200"/>
            <a:ext cx="70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）磨成矩形       （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）磨成圆锥形         （</a:t>
            </a:r>
            <a:r>
              <a:rPr b="0" lang="en-US" sz="1800" spc="-1" strike="noStrike">
                <a:solidFill>
                  <a:srgbClr val="000000"/>
                </a:solidFill>
                <a:latin typeface="仿宋_GB2312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）铅笔的磨法   </a:t>
            </a:r>
            <a:endParaRPr b="0" lang="en-US" sz="1800" spc="-1" strike="noStrike">
              <a:solidFill>
                <a:srgbClr val="0066ff"/>
              </a:solidFill>
              <a:latin typeface="仿宋_GB2312"/>
            </a:endParaRPr>
          </a:p>
        </p:txBody>
      </p:sp>
    </p:spTree>
  </p:cSld>
  <p:transition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68360" y="204840"/>
            <a:ext cx="8229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 图板、丁字尺和三角板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52" name="IM 90" descr=""/>
          <p:cNvPicPr/>
          <p:nvPr/>
        </p:nvPicPr>
        <p:blipFill>
          <a:blip r:embed="rId1"/>
          <a:stretch/>
        </p:blipFill>
        <p:spPr>
          <a:xfrm>
            <a:off x="246240" y="2097000"/>
            <a:ext cx="2701800" cy="15638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09" descr="0226"/>
          <p:cNvPicPr/>
          <p:nvPr/>
        </p:nvPicPr>
        <p:blipFill>
          <a:blip r:embed="rId2"/>
          <a:stretch/>
        </p:blipFill>
        <p:spPr>
          <a:xfrm>
            <a:off x="3271680" y="1270080"/>
            <a:ext cx="2254320" cy="23907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110" descr="0227"/>
          <p:cNvPicPr/>
          <p:nvPr/>
        </p:nvPicPr>
        <p:blipFill>
          <a:blip r:embed="rId3"/>
          <a:stretch/>
        </p:blipFill>
        <p:spPr>
          <a:xfrm>
            <a:off x="5851440" y="1747800"/>
            <a:ext cx="2984760" cy="1913040"/>
          </a:xfrm>
          <a:prstGeom prst="rect">
            <a:avLst/>
          </a:prstGeom>
          <a:ln w="0">
            <a:noFill/>
          </a:ln>
        </p:spPr>
      </p:pic>
      <p:sp>
        <p:nvSpPr>
          <p:cNvPr id="55" name="矩形 3"/>
          <p:cNvSpPr/>
          <p:nvPr/>
        </p:nvSpPr>
        <p:spPr>
          <a:xfrm>
            <a:off x="1454040" y="40100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图板、图纸的放置</a:t>
            </a:r>
            <a:endParaRPr b="0" lang="en-US" sz="18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56" name="矩形 4"/>
          <p:cNvSpPr/>
          <p:nvPr/>
        </p:nvSpPr>
        <p:spPr>
          <a:xfrm>
            <a:off x="3554280" y="4010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用丁字尺和三角板画垂线</a:t>
            </a:r>
            <a:endParaRPr b="0" lang="en-US" sz="18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6550200" y="401004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画任意角度的平行线或垂线</a:t>
            </a:r>
            <a:endParaRPr b="0" lang="en-US" sz="18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658800" y="45417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丁字尺由尺头和尺身两部分组成，它主要用来画水平线。画水平线时从左到右画，铅笔前后方向应与纸面垂直，并向画线前进方向倾斜约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三角板分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4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两块，可以配合丁字尺画铅垂线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倍角的斜线、任意角度的平行线或垂线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</p:spTree>
  </p:cSld>
  <p:transition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7"/>
          <p:cNvSpPr/>
          <p:nvPr/>
        </p:nvSpPr>
        <p:spPr>
          <a:xfrm>
            <a:off x="436680" y="293760"/>
            <a:ext cx="8229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 圆规和分规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4087800" y="3932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圆规的使用</a:t>
            </a:r>
            <a:endParaRPr b="0" lang="en-US" sz="18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96880" y="45435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圆规用来画圆和圆弧。画图时应尽量使钢针和铅芯都垂直于纸面，钢针的台阶与铅芯尖应平齐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62" name="IM 96" descr=""/>
          <p:cNvPicPr/>
          <p:nvPr/>
        </p:nvPicPr>
        <p:blipFill>
          <a:blip r:embed="rId1"/>
          <a:stretch/>
        </p:blipFill>
        <p:spPr>
          <a:xfrm>
            <a:off x="988920" y="1538280"/>
            <a:ext cx="7124760" cy="20923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 98" descr=""/>
          <p:cNvPicPr/>
          <p:nvPr/>
        </p:nvPicPr>
        <p:blipFill>
          <a:blip r:embed="rId1"/>
          <a:stretch/>
        </p:blipFill>
        <p:spPr>
          <a:xfrm>
            <a:off x="1995480" y="569880"/>
            <a:ext cx="5024520" cy="3382920"/>
          </a:xfrm>
          <a:prstGeom prst="rect">
            <a:avLst/>
          </a:prstGeom>
          <a:ln w="0">
            <a:noFill/>
          </a:ln>
        </p:spPr>
      </p:pic>
      <p:sp>
        <p:nvSpPr>
          <p:cNvPr id="64" name="矩形 1"/>
          <p:cNvSpPr/>
          <p:nvPr/>
        </p:nvSpPr>
        <p:spPr>
          <a:xfrm>
            <a:off x="4074480" y="4314960"/>
            <a:ext cx="8665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规的用法</a:t>
            </a:r>
            <a:endParaRPr b="0" lang="en-US" sz="18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65" name="矩形 2"/>
          <p:cNvSpPr/>
          <p:nvPr/>
        </p:nvSpPr>
        <p:spPr>
          <a:xfrm>
            <a:off x="646200" y="4587840"/>
            <a:ext cx="79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分规可用来量取尺寸和等分线段或圆弧。分规的两腿均装有钢针，分规两脚合拢时，两针尖应对齐。从比例尺上量取长度时，针尖不要正对尺面，应使针尖与尺面保持倾斜。用分规等分线段时，通常要用试分法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1000080" y="2916360"/>
            <a:ext cx="704844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三  几何图形的绘制方法</a:t>
            </a:r>
            <a:endParaRPr b="0" lang="en-US" sz="4000" spc="-1" strike="noStrike">
              <a:solidFill>
                <a:srgbClr val="0066ff"/>
              </a:solidFill>
              <a:latin typeface="仿宋_GB2312"/>
            </a:endParaRPr>
          </a:p>
        </p:txBody>
      </p:sp>
    </p:spTree>
  </p:cSld>
  <p:transition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289080" y="266760"/>
            <a:ext cx="822960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 绘制圆弧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1225440" y="928800"/>
            <a:ext cx="432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用半径为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圆弧连接两已知直线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69" name="IM 126" descr=""/>
          <p:cNvPicPr/>
          <p:nvPr/>
        </p:nvPicPr>
        <p:blipFill>
          <a:blip r:embed="rId1"/>
          <a:stretch/>
        </p:blipFill>
        <p:spPr>
          <a:xfrm>
            <a:off x="4951440" y="1951200"/>
            <a:ext cx="3895560" cy="2554200"/>
          </a:xfrm>
          <a:prstGeom prst="rect">
            <a:avLst/>
          </a:prstGeom>
          <a:ln w="0">
            <a:noFill/>
          </a:ln>
        </p:spPr>
      </p:pic>
      <p:sp>
        <p:nvSpPr>
          <p:cNvPr id="70" name="矩形 2"/>
          <p:cNvSpPr/>
          <p:nvPr/>
        </p:nvSpPr>
        <p:spPr>
          <a:xfrm>
            <a:off x="460440" y="1951200"/>
            <a:ext cx="416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求连接弧的圆心。分别作与已知两直线相距为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的平行线，交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就是连接弧的圆心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求连接弧的切点。从圆心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分别向两直线作垂线，垂足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M</a:t>
            </a:r>
            <a:r>
              <a:rPr b="0" i="1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即切点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画连接弧。以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圆心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半径，在两切点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M</a:t>
            </a:r>
            <a:r>
              <a:rPr b="0" i="1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之间作圆弧，即得所求的连接弧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</p:spTree>
  </p:cSld>
  <p:transition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1"/>
          <p:cNvSpPr/>
          <p:nvPr/>
        </p:nvSpPr>
        <p:spPr>
          <a:xfrm>
            <a:off x="1386720" y="361800"/>
            <a:ext cx="432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．用半径为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圆弧连接两已知圆弧</a:t>
            </a:r>
            <a:endParaRPr b="0" lang="en-US" sz="32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72" name="矩形 2"/>
          <p:cNvSpPr/>
          <p:nvPr/>
        </p:nvSpPr>
        <p:spPr>
          <a:xfrm>
            <a:off x="274680" y="1236600"/>
            <a:ext cx="84819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求连接弧的圆心：分别以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圆心，当半径为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的连接弧与两已知圆弧都外切时，分别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R+r1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R+r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半径画弧；当半径为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的连接弧与两已知圆弧都内切时，分别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R-r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R-r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这里是指连接弧与已知圆弧半径之差的绝对值）为半径画弧，得交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即连接弧的圆心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求连接弧的切点：作两圆心连线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O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O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或其延长线，与已知圆弧分别交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两点，即切点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画连接弧：以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圆心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半径，自点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至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画圆弧，即完成作图。</a:t>
            </a: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ff"/>
              </a:solidFill>
              <a:latin typeface="仿宋_GB2312"/>
            </a:endParaRPr>
          </a:p>
        </p:txBody>
      </p:sp>
      <p:pic>
        <p:nvPicPr>
          <p:cNvPr id="73" name="IM 128" descr=""/>
          <p:cNvPicPr/>
          <p:nvPr/>
        </p:nvPicPr>
        <p:blipFill>
          <a:blip r:embed="rId1"/>
          <a:stretch/>
        </p:blipFill>
        <p:spPr>
          <a:xfrm>
            <a:off x="2117880" y="4479840"/>
            <a:ext cx="5233680" cy="1735200"/>
          </a:xfrm>
          <a:prstGeom prst="rect">
            <a:avLst/>
          </a:prstGeom>
          <a:ln w="0">
            <a:noFill/>
          </a:ln>
        </p:spPr>
      </p:pic>
      <p:sp>
        <p:nvSpPr>
          <p:cNvPr id="74" name="文本框 3"/>
          <p:cNvSpPr/>
          <p:nvPr/>
        </p:nvSpPr>
        <p:spPr>
          <a:xfrm>
            <a:off x="3065400" y="636120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外切</a:t>
            </a:r>
            <a:endParaRPr b="0" lang="en-US" sz="1800" spc="-1" strike="noStrike">
              <a:solidFill>
                <a:srgbClr val="0066ff"/>
              </a:solidFill>
              <a:latin typeface="仿宋_GB2312"/>
            </a:endParaRPr>
          </a:p>
        </p:txBody>
      </p:sp>
      <p:sp>
        <p:nvSpPr>
          <p:cNvPr id="75" name="文本框 7"/>
          <p:cNvSpPr/>
          <p:nvPr/>
        </p:nvSpPr>
        <p:spPr>
          <a:xfrm>
            <a:off x="5370480" y="635652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仿宋_GB2312"/>
              </a:rPr>
              <a:t>内切</a:t>
            </a:r>
            <a:endParaRPr b="0" lang="en-US" sz="1800" spc="-1" strike="noStrike">
              <a:solidFill>
                <a:srgbClr val="0066ff"/>
              </a:solidFill>
              <a:latin typeface="仿宋_GB2312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5T02:13:33Z</dcterms:created>
  <dc:creator>张</dc:creator>
  <dc:description/>
  <dc:language>en-US</dc:language>
  <cp:lastModifiedBy>科学虫</cp:lastModifiedBy>
  <dcterms:modified xsi:type="dcterms:W3CDTF">2025-10-15T06:01:23Z</dcterms:modified>
  <cp:revision>1203</cp:revision>
  <dc:subject/>
  <dc:title>第一章制图的基础知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F0884C699A1945ADBFCDC3845E8AC264_12</vt:lpwstr>
  </property>
  <property fmtid="{D5CDD505-2E9C-101B-9397-08002B2CF9AE}" pid="3" name="KSOProductBuildVer">
    <vt:lpwstr>2052-12.1.0.18276</vt:lpwstr>
  </property>
</Properties>
</file>